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DF1-9994-48CA-824F-E492CD6D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E46-8BBD-4FE8-B62F-8DC046B2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796-0999-4094-B8D9-6B48D430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9A5-A002-418E-8DEB-CE837E9A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95E-0336-47C6-B30D-ADE9804E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34C-44F9-4153-88B5-1F43D976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A95-B15C-414B-8DAD-2B0F72EF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8E7-135A-42C9-B184-9C91FD56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3E2-982B-4CDB-95F2-9487772C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8BC-BB49-4894-9807-6A37532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E5A-C755-4463-ABCF-793D786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D88-1848-46E9-AEE5-8A1F97A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Scene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"/><Relationship Id="rId13" Type="http://schemas.openxmlformats.org/officeDocument/2006/relationships/slide" Target="slide4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" Target="slide6.xml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6FA-A688-442B-A14C-687E7B2DF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7134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71600" y="0"/>
            <a:ext cx="7772400" cy="7134120"/>
          </a:xfrm>
          <a:prstGeom prst="rect">
            <a:avLst/>
          </a:prstGeom>
          <a:solidFill>
            <a:srgbClr val="ffe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2" action="ppaction://hlinksldjump"/>
          </p:cNvPr>
          <p:cNvSpPr/>
          <p:nvPr/>
        </p:nvSpPr>
        <p:spPr>
          <a:xfrm>
            <a:off x="380880" y="457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3" action="ppaction://hlinksldjump"/>
          </p:cNvPr>
          <p:cNvSpPr/>
          <p:nvPr/>
        </p:nvSpPr>
        <p:spPr>
          <a:xfrm>
            <a:off x="380880" y="1523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4" action="ppaction://hlinksldjump"/>
          </p:cNvPr>
          <p:cNvSpPr/>
          <p:nvPr/>
        </p:nvSpPr>
        <p:spPr>
          <a:xfrm>
            <a:off x="380880" y="2590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5" action="ppaction://hlinksldjump"/>
          </p:cNvPr>
          <p:cNvSpPr/>
          <p:nvPr/>
        </p:nvSpPr>
        <p:spPr>
          <a:xfrm>
            <a:off x="533520" y="167652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6" action="ppaction://hlinksldjump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7" action="ppaction://hlinksldjump"/>
          </p:cNvPr>
          <p:cNvSpPr/>
          <p:nvPr/>
        </p:nvSpPr>
        <p:spPr>
          <a:xfrm>
            <a:off x="53352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8" action="ppaction://hlinksldjump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9" action="ppaction://hlinksldjump"/>
          </p:cNvPr>
          <p:cNvSpPr/>
          <p:nvPr/>
        </p:nvSpPr>
        <p:spPr>
          <a:xfrm>
            <a:off x="380880" y="3581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0" action="ppaction://hlinksldjump"/>
          </p:cNvPr>
          <p:cNvSpPr/>
          <p:nvPr/>
        </p:nvSpPr>
        <p:spPr>
          <a:xfrm>
            <a:off x="380880" y="4572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1" action="ppaction://hlinksldjump"/>
          </p:cNvPr>
          <p:cNvSpPr/>
          <p:nvPr/>
        </p:nvSpPr>
        <p:spPr>
          <a:xfrm>
            <a:off x="3808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2" action="ppaction://hlinksldjump"/>
          </p:cNvPr>
          <p:cNvSpPr/>
          <p:nvPr/>
        </p:nvSpPr>
        <p:spPr>
          <a:xfrm>
            <a:off x="533520" y="3733920"/>
            <a:ext cx="183960" cy="459720"/>
          </a:xfrm>
          <a:prstGeom prst="rect">
            <a:avLst/>
          </a:prstGeom>
          <a:solidFill>
            <a:srgbClr val="ffe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13" action="ppaction://hlinksldjump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4" action="ppaction://hlinksldjump"/>
          </p:cNvPr>
          <p:cNvSpPr/>
          <p:nvPr/>
        </p:nvSpPr>
        <p:spPr>
          <a:xfrm>
            <a:off x="533520" y="4724280"/>
            <a:ext cx="228600" cy="459720"/>
          </a:xfrm>
          <a:prstGeom prst="rect">
            <a:avLst/>
          </a:prstGeom>
          <a:solidFill>
            <a:srgbClr val="ffe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15" action="ppaction://hlinksldjump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6" action="ppaction://hlinksldjump"/>
          </p:cNvPr>
          <p:cNvSpPr/>
          <p:nvPr/>
        </p:nvSpPr>
        <p:spPr>
          <a:xfrm>
            <a:off x="577800" y="5638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Times New Roman"/>
                <a:hlinkClick r:id="rId17" action="ppaction://hlinksldjump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80880" y="609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Chart.xml"/><Relationship Id="rId2" Type="http://schemas.openxmlformats.org/officeDocument/2006/relationships/slide" Target="slide22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Keys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Activities.xml"/><Relationship Id="rId4" Type="http://schemas.openxmlformats.org/officeDocument/2006/relationships/slide" Target="slide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Concepts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Activities.xml"/><Relationship Id="rId4" Type="http://schemas.openxmlformats.org/officeDocument/2006/relationships/slide" Target="slide15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8.xml"/><Relationship Id="rId3" Type="http://schemas.openxmlformats.org/officeDocument/2006/relationships/slide" Target="slide15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Techniques.xm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Ho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286000"/>
            <a:ext cx="53337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.A.U.C.E. is an inquiry model that has been created by Trevor Bo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Our school has identified the key points and adapted it to our nee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his resource is to help teachers when using S.A.U.C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601992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Click here to view the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Marker Felt"/>
                <a:hlinkClick r:id="rId1" action="ppaction://hlinksldjump"/>
              </a:rPr>
              <a:t>S.A.U.C.E.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A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2133720"/>
            <a:ext cx="6477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hoose the search source, for instance, book, interne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key information a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Validate information and triangulate (locate three sources saying the same 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A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371600"/>
            <a:ext cx="74678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Identifying the best source to acquire the information in the time allowed (note: this is not always the 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Identifying good search eng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arching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Working co-operatively and collabor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Note-t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Identifying key words and phrases in a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utting and pasting from a website to a word processing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343400" y="594360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A - Possible learning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219320"/>
            <a:ext cx="708660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Note-taking, skimming and scanning, using a contents and index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P.M.I.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Communication pla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de Bono’s hats - classify information into areas, white hat =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Design a fax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language used in faxes, emails and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1981080"/>
            <a:ext cx="655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How could this information b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What am I going to do with this new lear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How am I going to use this information to change or consolidate mine think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584360"/>
            <a:ext cx="64008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ritical thinking - applying appropriate rules, criteria, standards, reasons and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ing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Order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Analy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or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or more ideas visit Trevor Bond’s website </a:t>
            </a: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http://ictnz.com/SAUC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U - Possible learning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981080"/>
            <a:ext cx="67816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Use de Bono’s 6 hats method to classify and use th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Apply knowledge to the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“thinkers key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C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9051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ommunicate the outcome appropriately, clearly and creativel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Justify decisions where relevant from gather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C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286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079720"/>
            <a:ext cx="624816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Oratory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reative thinking - inventing, imagining, and propo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Forms of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C - Possible learning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19810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752480"/>
            <a:ext cx="77724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Write to parties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Make a sign for publ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pread the word, for example, in school news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nvite a guest speaker to inform parents/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Or… write letters to inform people, create an iMovie and have an information evening, create a book for juniors, hold their own ceremony based on the one learnt, create a dance for the school, make people a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E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2133720"/>
            <a:ext cx="6096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ere are two aspects - product an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e minor assessment will be on the product with the major assessment and evaluations on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Set the sc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286000"/>
            <a:ext cx="50292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50002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4" action="ppaction://hlinksldjump"/>
              </a:rPr>
              <a:t>Possible learn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5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E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4343400" y="594360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1371600"/>
            <a:ext cx="7620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o write statements of fact about their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what they did and evaluat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Derive questions for learners to answer as a self-evaluation of the process they have gone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How to use a rubric for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ntegrity - honesty, okay to have not succeeded, but you need to know 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Peer and self-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Evaluate the learning process they wen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E - Possible learning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133720"/>
            <a:ext cx="5791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Learning journal/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.W.O.T. (Say What’s On T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Peer and self-assessment of th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Evaluate the process of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Communication pla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28800" y="2209680"/>
          <a:ext cx="6095880" cy="25272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F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E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Inter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Forms of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76520" y="2438280"/>
          <a:ext cx="7238520" cy="2743200"/>
        </p:xfrm>
        <a:graphic>
          <a:graphicData uri="http://schemas.openxmlformats.org/drawingml/2006/table">
            <a:tbl>
              <a:tblPr/>
              <a:tblGrid>
                <a:gridCol w="3181680"/>
                <a:gridCol w="405684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Graphic Organi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Vid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rite a 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Slides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Deb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Dance/drama perform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Make a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Bradley Hand ITC TT-Bold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P.M.I.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81080" y="1981080"/>
          <a:ext cx="6096240" cy="2978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arker Felt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arker Felt"/>
                        </a:rPr>
                        <a:t>Mi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arker Felt"/>
                        </a:rPr>
                        <a:t>Inter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Thinkers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600200"/>
            <a:ext cx="6629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ere are two different thinkers keys that you adjust the activity for to suit the topic/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620120" y="56386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828800" y="2590920"/>
          <a:ext cx="5334120" cy="3352680"/>
        </p:xfrm>
        <a:graphic>
          <a:graphicData uri="http://schemas.openxmlformats.org/drawingml/2006/table">
            <a:tbl>
              <a:tblPr/>
              <a:tblGrid>
                <a:gridCol w="2286000"/>
                <a:gridCol w="304812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Rever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B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Ridicul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Interpre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What I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Vari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Comm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Brick W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Disadvant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Comb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Pred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Brainst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Forced 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Alpha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Different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In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Alter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The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K.W.H.L.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7162920" y="6094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52480" y="2209680"/>
          <a:ext cx="6857640" cy="4038480"/>
        </p:xfrm>
        <a:graphic>
          <a:graphicData uri="http://schemas.openxmlformats.org/drawingml/2006/table">
            <a:tbl>
              <a:tblPr/>
              <a:tblGrid>
                <a:gridCol w="1714680"/>
                <a:gridCol w="1713960"/>
                <a:gridCol w="1714320"/>
                <a:gridCol w="171468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hat I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hat I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a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to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 I can fin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What I hav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</a:rPr>
                        <a:t>lear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Question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438280"/>
            <a:ext cx="6248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at and skinn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ven serv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 have seven honest men who have served me well. They have taught me all I know.  Their names are who, what, when, why, which, where, and 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685800" y="-152280"/>
            <a:ext cx="10286640" cy="7390800"/>
            <a:chOff x="-685800" y="-152280"/>
            <a:chExt cx="10286640" cy="7390800"/>
          </a:xfrm>
        </p:grpSpPr>
        <p:grpSp>
          <p:nvGrpSpPr>
            <p:cNvPr id="191" name=""/>
            <p:cNvGrpSpPr/>
            <p:nvPr/>
          </p:nvGrpSpPr>
          <p:grpSpPr>
            <a:xfrm>
              <a:off x="1649880" y="86040"/>
              <a:ext cx="6993720" cy="6436800"/>
              <a:chOff x="1649880" y="86040"/>
              <a:chExt cx="6993720" cy="6436800"/>
            </a:xfrm>
          </p:grpSpPr>
          <p:sp>
            <p:nvSpPr>
              <p:cNvPr id="192" name=""/>
              <p:cNvSpPr/>
              <p:nvPr/>
            </p:nvSpPr>
            <p:spPr>
              <a:xfrm>
                <a:off x="1649880" y="86040"/>
                <a:ext cx="6993720" cy="643680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16400" y="1296720"/>
                <a:ext cx="248040" cy="29448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474000" y="3551400"/>
              <a:ext cx="3270600" cy="1335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2960" y="2470320"/>
              <a:ext cx="3616560" cy="351504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01640" y="2311560"/>
              <a:ext cx="2297160" cy="48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w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2160" y="2311560"/>
              <a:ext cx="1098360" cy="48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 kn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85800" y="410940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5054760" y="3756960"/>
              <a:ext cx="66240" cy="1728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049640" y="3332880"/>
              <a:ext cx="2463840" cy="1489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26400" y="5251680"/>
              <a:ext cx="1677600" cy="953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oose bes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3640" y="4298040"/>
              <a:ext cx="1677600" cy="1105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key    ques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06760" y="3105720"/>
              <a:ext cx="1708560" cy="953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 the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47440" y="3662280"/>
              <a:ext cx="1239120" cy="621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67080" y="3105720"/>
              <a:ext cx="1677600" cy="953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e key words and                phr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0560" y="4377600"/>
              <a:ext cx="1677600" cy="890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 useful inform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73960" y="5998680"/>
              <a:ext cx="25610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Acqu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81600" y="1278000"/>
              <a:ext cx="211968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U</a:t>
              </a:r>
              <a:r>
                <a:rPr b="0" lang="en-US" sz="20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5400" y="-152280"/>
              <a:ext cx="49478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C</a:t>
              </a:r>
              <a:r>
                <a:rPr b="0" lang="en-US" sz="24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ommunic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4360" y="-152280"/>
              <a:ext cx="362268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E</a:t>
              </a:r>
              <a:r>
                <a:rPr b="0" lang="en-US" sz="2400" spc="-1" strike="noStrike">
                  <a:solidFill>
                    <a:srgbClr val="ff33cc"/>
                  </a:solidFill>
                  <a:latin typeface="Wide Latin"/>
                  <a:ea typeface="Times New Roman"/>
                </a:rPr>
                <a:t>valu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71560" y="1596240"/>
              <a:ext cx="2281680" cy="1430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7023960" y="1834560"/>
              <a:ext cx="2576880" cy="1509120"/>
              <a:chOff x="7023960" y="1834560"/>
              <a:chExt cx="2576880" cy="1509120"/>
            </a:xfrm>
          </p:grpSpPr>
          <p:sp>
            <p:nvSpPr>
              <p:cNvPr id="213" name=""/>
              <p:cNvSpPr/>
              <p:nvPr/>
            </p:nvSpPr>
            <p:spPr>
              <a:xfrm>
                <a:off x="7023960" y="1834560"/>
                <a:ext cx="2355840" cy="15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33cc"/>
                    </a:solidFill>
                    <a:latin typeface="Wide Latin"/>
                    <a:ea typeface="Times New Roman"/>
                  </a:rPr>
                  <a:t>S</a:t>
                </a:r>
                <a:r>
                  <a:rPr b="0" lang="en-US" sz="2000" spc="-1" strike="noStrike">
                    <a:solidFill>
                      <a:srgbClr val="ff33cc"/>
                    </a:solidFill>
                    <a:latin typeface="Wide Latin"/>
                    <a:ea typeface="Times New Roman"/>
                  </a:rPr>
                  <a:t>et the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cc"/>
                    </a:solidFill>
                    <a:latin typeface="Wide Latin"/>
                    <a:ea typeface="Times New Roman"/>
                  </a:rPr>
                  <a:t>         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82640" y="2561040"/>
                <a:ext cx="161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cc"/>
                    </a:solidFill>
                    <a:latin typeface="Wide Latin"/>
                    <a:ea typeface="Times New Roman"/>
                  </a:rPr>
                  <a:t>sce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784680" y="960120"/>
              <a:ext cx="2944800" cy="143028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nap ITC"/>
                </a:rPr>
                <a:t>TA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nap ITC"/>
                </a:rPr>
                <a:t>Use the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24000" y="5516640"/>
            <a:ext cx="3738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6248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ourtesy of Trevor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9232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7387" y="3794"/>
                </a:lnTo>
                <a:lnTo>
                  <a:pt x="7387" y="17806"/>
                </a:lnTo>
                <a:lnTo>
                  <a:pt x="57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2155680"/>
            <a:ext cx="57913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50002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4" action="ppaction://hlinksldjump"/>
              </a:rPr>
              <a:t>Possib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5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079720"/>
            <a:ext cx="609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50002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4" action="ppaction://hlinksldjump"/>
              </a:rPr>
              <a:t>Possib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Communic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2209680"/>
            <a:ext cx="6400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Possib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2155680"/>
            <a:ext cx="62485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Main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2" action="ppaction://hlinksldjump"/>
              </a:rPr>
              <a:t>Teach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3" action="ppaction://hlinksldjump"/>
              </a:rPr>
              <a:t>Possib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S - Main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1905120"/>
            <a:ext cx="6629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Read through th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prior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 key words and phrases in th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Write key questions from the keywords and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S - Teaching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209680"/>
            <a:ext cx="685800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Questioning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kimming and scann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Bradley Hand ITC TT-Bold"/>
              </a:rPr>
              <a:t>(for more information visit English Online which can be accessed through TK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Identifying ke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S - Possible learning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965240"/>
            <a:ext cx="670536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de Bono’s h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 u="sng">
                <a:solidFill>
                  <a:srgbClr val="050002"/>
                </a:solidFill>
                <a:uFillTx/>
                <a:latin typeface="Bradley Hand ITC TT-Bold"/>
                <a:hlinkClick r:id="rId1" action="ppaction://hlinksldjump"/>
              </a:rPr>
              <a:t>K.W.H.L. chart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(what do we know, what do we want to know, how can we find out, what did we lea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Mind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4343400" y="5638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395280" y="47628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395280" y="1484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i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4:01:21Z</dcterms:created>
  <dc:creator>Me</dc:creator>
  <dc:description/>
  <dc:language>en-US</dc:language>
  <cp:lastModifiedBy>WINTEC USER</cp:lastModifiedBy>
  <dcterms:modified xsi:type="dcterms:W3CDTF">2007-05-14T00:32:39Z</dcterms:modified>
  <cp:revision>226</cp:revision>
  <dc:subject/>
  <dc:title>PowerPoint Presentation</dc:title>
</cp:coreProperties>
</file>